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806-59BF-4FD5-8623-A7915E45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AD6-1C60-4F51-9A69-1C10A1B0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536-F8C0-4190-B169-F594E357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C4A-7662-42BB-BF74-37706882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730-0DBF-4207-8406-0D8618C0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4B73-764F-4FBB-A5F9-E1D23D0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C5D9-EFFE-4B74-8CD0-8A4305C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D86F-EB0A-400A-B674-3C1D9340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F014-CD9C-4589-87A1-A9595BD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65A0-0206-4623-AF13-C00F309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F07-DD22-4151-ABAB-1F981DA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2BB-735C-4B81-B389-865FA68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E145-C8EC-4D9F-8DA9-98E81E9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D30D-9361-4E53-A130-0CE9285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BAA1-030F-4A0C-B77C-443BE58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2E05-1AA7-4D05-9E87-796555F5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7311-A0BE-41C8-BE4C-122966F4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B50-2C4F-4842-8637-78D9EE51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A08-AB9C-400D-A695-1884E827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D31-B8B3-4E50-8260-17EE325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152-E9F1-4C15-AC35-A7A26771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C95-7559-43C8-90FE-075436D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B7D-AF13-4ED8-BBDF-429DC81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5CA-10F9-457D-86A1-A6DDC6F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837-F138-4F87-BA1A-8C55BA0B4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4CE7-820D-4B91-880B-BBF5B5972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69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Основные этапы развития позитивизм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ческий (первый) позитивиз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хизм и эмпириокритицизм (второй позитивизм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позитивизм (логический позитивиз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позитивиз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3472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фаллибилиз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ает, что любое научное знание носит лишь гипотетический характер и подвержено ошиб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Теория «трех миров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тверждающая существование первого мира - мира объектов, второго мира - мира субъектов и третьего мира - мира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объективного зн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й порожден первым и вторым мирами, но существует независимо от них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ре Лакатос (1922-19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Фальсификация и методология научно-исследовательских программ» (197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стория науки и ее рациональные реконструкции» (197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зменяющаяся логика научного открытия» (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катос разработал методологию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аучно-исследовательских програм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ИП), смягчающую жесткость фальсификационизма: теория отживает свой век не тогда, когда объявляется противоречащий ей факт, а когда о себе заявляет теория, которая лучше предыдущ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науки представляет собой конкуренцию НИП, когда одна исследовательская программа вытесняет другу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П есть серия сменяющихся теорий, связанных между собой едиными основополагающими принцип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грамму входит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гативная эврис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ила-запр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озитивная эврис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тратегия выбора первоочередных проблем и задач, которые следует реша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НИП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«Жесткое ядро»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которое входят неопровергаемые для сторонников программы, фундаментальные положения (нефальсифицируемые гипотезы). То есть это то, что является общим для всех ее теорий. По ядру можно судить о характере всей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ет совокупность вспомогательных гипотез, которые предохраняют ее ядро от фальсификации, от опровергающих фактов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(«защитный пояс»)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81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ьсификации, т.е. теоретической критике и эмпирическому опровержению, подвергается лишь гипотезы «защитного пояса». По общему соглашению подвергать фальсификации жесткое ядро запрещает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ысл программы в способности пополнять знания, предсказывать новые факты, а противоречия и трудности в объяснении каких-либо явлений  не влияют на отношение к ней уче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ас Кун (1922-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перниканская революция» (195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труктура научных революций» (196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еория черного тела и квантовая прерывность. 1894-1912» (197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В истории науки выделяются следующие стад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Допарадигмальная нау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клектичное соединение различных альтернативных гипотез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конкурирующих научных сообществ. Каждая группа строит свои теории без ссылок на внешние авторитеты и образ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рмальная нау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период господства той или иной парадигмы, образцовой теории используемой для относительно согласованного и единообразного решения возникающих пробл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081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позитивизм. К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гюст Ко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798–1857), 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Джон Мил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06–1873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Герберт Спенс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20–1903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о Кон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ское знание должно быть точным и достовер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ой метод философии – эмпирическое наблю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исследует факты, а не «причины» и «сущн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не занимается ценност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не есть «царица наук», она должна стать конкретной нау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арадиг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дисциплинарная матрица)- это совокупность убеждений, ценностей, технических средств, принятых научным сообществом и обеспечивающих научную традиц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дигмой определяется что является значимой научной проблемой, что должно быть проигнорировано (исключения)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ть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рмальной нау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кумулятивном накоплении знаний, теоретическом и экспериментальном уточнении программных установок. Только на этой стадии идет рост 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период заканчивается, когд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«взрывается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нутри под давлением «аномалий» (проблем, неразрешимых в ее рамках)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Революционная нау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оздаются новые парадигмы, оспаривающие первенство друг у друга. (есть определенное сходство с допарадигмальной науко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изис разрешается победой одной из них;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нача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ового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«нормального» период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(все заново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, какая версия победит, зависит не только от научных их достоинств, но и факторов политических, социальных, культур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соизмеримость парадиг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невозможно установление каких-либо логических отношений между сменяющими друг друга теор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существует фактов, независимых от парадигмы, и следовательно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 существуе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етически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йтральн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язы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аблюд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 Фейерабенд (1924-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отив метода. Очерк анархистской теории познания» (197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аука в свободном обществе» (197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облемы эмпиризма. Философские заметки» (198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1294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ет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концепцию эпистемологического анарх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йерабендом отрицае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ование объективной ист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ление о кумулятивности научного знания и преемственности в его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него развитие науки есть череда случайных и произвольных переворо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691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сновные понят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пролифераци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множения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орий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ученые должны стремиться создавать теории, несовместимые с существующими и признанными теор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альтернативных теорий способствует их взаимной критике и ускоряет развитие нау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люрализм в методологии нау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следствие принципа пролиферации теор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Методологический анархизм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аждый ученый может изобретать и разрабатывать свои собственные теории, не обращая внимания на противоречия и крити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ь ученого не подчинена никаким рациональным нормам, поэтому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развитие науки иррациональ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 наука ничем не отличается от мифа и религии, представляя собой одну из форм идеолог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кл Полани (1891-19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Личностное знание. На пути к посткритической философии» (195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ания академической свободы» (194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еявное знание» (196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Майкл Полан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ани доказывает, что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установ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разделяемые исследователем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возмож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олност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ербализов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яду с вербализованным (текст) знанием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существуе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знание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яв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евербализованное. Оно передаю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т учителя к ученик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от поколения к поколению на уровне непосредственной демонстрации образцов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позитив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Эрнст М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36–1916) и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ихард Авенариу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43–189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Иде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 философии –  критика и анализ опыта (эмпириокритициз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предметы и явления окружающего мира для человека есть «комплекс ощущений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значит, что изучение окружающего мира есть опытное исследование человеческих ощущ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должна стать достоверной наукой об ощущениях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Майкл Полан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дея: следует считывать не только ценности (Кун), но и другие факто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ауке явное знание представлено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 понятиях и теориях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явное – как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личностное зн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поз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6920" y="1904760"/>
            <a:ext cx="74883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 в 20-е годы ХХ 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Представител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Мориц Шли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82-1936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удольф Карна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91-1970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Людвиг Витгенштей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89-1951)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Иде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дача философии – логический анализ языка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езультат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опозитивисты исключают из сферы философии почти всю философскую проблематик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Поппер (1902-1994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7634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Логика научного исследования» (193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ткрытое общество и его враги» (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ищета историцизма» (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Логика и рост научного зн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снован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ии находя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гипоте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редположения); научные гипотезы навсегда остаются гипотезам, их истинность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льзя д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гипотез по законам дедукции выводят предложения, которые можно сопоставить с факт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Сопоставление с факт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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дложени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 противореч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фактам, то теори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родолжает ж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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дложения теории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провергаю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фальсифицируются) фактами, то теория считае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лож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в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ная теория имеет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гипотетико-дедуктивну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труктур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потезы выступают попытками разрешить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дукция позволяет сверить содержание гипотез с экспериментальными фактами. Факты проверяют теорию на прочность (годится - не годится)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2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сновные понят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облема демарк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задача философии, заключающаяся в отделении научного знания от ненаучного. Метод демаркации – принцип фальсиф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фальсифик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ребует принципиальной опровержимости (фальсифицируемости) любого утверждения, относимого к науке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10-04-15T10:25:30Z</dcterms:modified>
  <cp:revision>110</cp:revision>
  <dc:subject/>
  <dc:title>Слайд 1</dc:title>
</cp:coreProperties>
</file>